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Script MT Bold"/>
              </a:rPr>
              <a:t>Click to move the slide</a:t>
            </a: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6E4C-78BC-4075-B82E-594EB44CAF5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erché si chiamano produ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’azione “ricevuta” nel nodo x, non dovrebbe essere input a,x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i N sono i sistem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 questa grammatica si può scrivere: in a.(P1 | P2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può essere vuo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B9729-A989-4873-8C1C-7CB17853EF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BB7F1-F7C2-41F9-A821-EA42DEF6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AD347-D9DF-4727-A323-7FB81643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75EF3-667A-406B-8F5A-B79660E68C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B9CE3-8FEA-44A4-91E6-5EE0AF96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D3151-8B7A-45E9-828A-70959B7B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844B0-44F5-4789-9764-830469A5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2271B-E963-4F8F-90AB-9336F1AF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B4991-74DC-4DED-9232-343DBCBD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7E644-9441-4040-9AE3-A25A0F16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B9A1C-2928-4B12-AD87-ADD6B168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AF5FB-A903-450C-86A5-C2974820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32604-5228-46D3-B7D2-A1529E0D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FD5AB-B004-4F79-A782-2FEF6745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53C2D-A7DB-4A52-92DE-A0F2A187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6C4DC-E7FB-4F9B-A8C8-A4F38CC4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24765-426F-4F0B-B82C-911F7C38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247E6-F691-4605-896D-21E36A3F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40E45-42FD-4E39-8D37-25B99338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3A6B8-32FE-49D5-88C0-B76FA7FD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9E0C6-6CF1-4BAA-BF23-3A0D5EA1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076C9-145E-4A19-82DC-7B3778D9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998EA-C989-4683-8FAC-C8DC86DC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8235E-2530-4EF7-8758-93151A3D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Script MT Bold"/>
              </a:rPr>
              <a:t>Click to edit the title text format</a:t>
            </a: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467480" y="6324480"/>
            <a:ext cx="144792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Cambridge, 8 June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-5335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084C-5A1B-4D36-B9B3-A2186D178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Script MT Bold"/>
              </a:rPr>
              <a:t>Click to edit the title text format</a:t>
            </a: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F9C4-1009-4DD1-947A-5602EF548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9360">
            <a:solidFill>
              <a:srgbClr val="a1bd6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82f00"/>
                </a:solidFill>
                <a:latin typeface="Script MT Bold"/>
              </a:rPr>
              <a:t>Graphs and Constraints for Coordination</a:t>
            </a:r>
            <a:endParaRPr b="0" lang="en-US" sz="36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6699"/>
                </a:solidFill>
                <a:latin typeface="Tw Cen MT"/>
              </a:rPr>
              <a:t>Emilio Tuos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6699"/>
                </a:solidFill>
                <a:latin typeface="Tw Cen MT"/>
              </a:rPr>
              <a:t>Dipartimento di Informat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6699"/>
                </a:solidFill>
                <a:latin typeface="Tw Cen MT"/>
              </a:rPr>
              <a:t>Università di Pi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6699"/>
                </a:solidFill>
                <a:latin typeface="Tw Cen MT"/>
              </a:rPr>
              <a:t>Work in progress wi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6699"/>
                </a:solidFill>
                <a:latin typeface="Tw Cen MT"/>
              </a:rPr>
              <a:t>G. Ferrari and U. Montana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6614280" y="6172200"/>
            <a:ext cx="233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Goudy Old Style"/>
              </a:rPr>
              <a:t>Cambrigde, 8 June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694b6"/>
                </a:solidFill>
                <a:latin typeface="Script MT Bold"/>
              </a:rPr>
              <a:t>Coordination concepts</a:t>
            </a: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193" name=""/>
          <p:cNvSpPr/>
          <p:nvPr/>
        </p:nvSpPr>
        <p:spPr>
          <a:xfrm>
            <a:off x="1058400" y="1708200"/>
            <a:ext cx="50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ordinating network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96280" y="2592360"/>
            <a:ext cx="76024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Components may be wrapped in amb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Ambients may be (</a:t>
            </a:r>
            <a:r>
              <a:rPr b="0" i="1" lang="it-IT" sz="2800" spc="-1" strike="noStrike">
                <a:solidFill>
                  <a:srgbClr val="3333cc"/>
                </a:solidFill>
                <a:latin typeface="Comic Sans MS"/>
              </a:rPr>
              <a:t>internally</a:t>
            </a: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) driven mo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around the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Ambients may be (</a:t>
            </a:r>
            <a:r>
              <a:rPr b="0" i="1" lang="it-IT" sz="2800" spc="-1" strike="noStrike">
                <a:solidFill>
                  <a:srgbClr val="3333cc"/>
                </a:solidFill>
                <a:latin typeface="Comic Sans MS"/>
              </a:rPr>
              <a:t>externally</a:t>
            </a: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) diss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Components may evolve in a “networ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(big-bang)</a:t>
            </a: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694b6"/>
                </a:solidFill>
                <a:latin typeface="Script MT Bold"/>
              </a:rPr>
              <a:t>A graph</a:t>
            </a:r>
            <a:r>
              <a:rPr b="0" lang="it-IT" sz="3200" spc="-1" strike="noStrike">
                <a:solidFill>
                  <a:srgbClr val="66ffff"/>
                </a:solidFill>
                <a:latin typeface="Script MT Bold"/>
              </a:rPr>
              <a:t>ical</a:t>
            </a:r>
            <a:r>
              <a:rPr b="0" lang="it-IT" sz="3200" spc="-1" strike="noStrike">
                <a:solidFill>
                  <a:srgbClr val="3694b6"/>
                </a:solidFill>
                <a:latin typeface="Script MT Bold"/>
              </a:rPr>
              <a:t> </a:t>
            </a:r>
            <a:r>
              <a:rPr b="0" lang="it-IT" sz="3200" spc="-1" strike="noStrike">
                <a:solidFill>
                  <a:srgbClr val="66ffff"/>
                </a:solidFill>
                <a:latin typeface="Script MT Bold"/>
              </a:rPr>
              <a:t>re</a:t>
            </a:r>
            <a:r>
              <a:rPr b="0" lang="it-IT" sz="3200" spc="-1" strike="noStrike">
                <a:solidFill>
                  <a:srgbClr val="3694b6"/>
                </a:solidFill>
                <a:latin typeface="Script MT Bold"/>
              </a:rPr>
              <a:t>presentation</a:t>
            </a: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624040" y="2536920"/>
            <a:ext cx="2481480" cy="666000"/>
            <a:chOff x="2624040" y="2536920"/>
            <a:chExt cx="2481480" cy="666000"/>
          </a:xfrm>
        </p:grpSpPr>
        <p:sp>
          <p:nvSpPr>
            <p:cNvPr id="197" name=""/>
            <p:cNvSpPr/>
            <p:nvPr/>
          </p:nvSpPr>
          <p:spPr>
            <a:xfrm>
              <a:off x="2624040" y="278928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66560" y="256068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38480" y="25369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95680" y="276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00600" y="27273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24280" y="2743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523880" y="2286000"/>
            <a:ext cx="990720" cy="993240"/>
            <a:chOff x="1523880" y="2286000"/>
            <a:chExt cx="990720" cy="993240"/>
          </a:xfrm>
        </p:grpSpPr>
        <p:sp>
          <p:nvSpPr>
            <p:cNvPr id="204" name=""/>
            <p:cNvSpPr/>
            <p:nvPr/>
          </p:nvSpPr>
          <p:spPr>
            <a:xfrm>
              <a:off x="1523880" y="2568600"/>
              <a:ext cx="3733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97200" y="2797200"/>
              <a:ext cx="29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95640" y="2759040"/>
              <a:ext cx="745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20760" y="228600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20760" y="281952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73200" y="25606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257800" y="1676520"/>
            <a:ext cx="3429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“offers” the visible action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n the nod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ducing to the graph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691280" y="3886200"/>
            <a:ext cx="3897720" cy="459720"/>
            <a:chOff x="1691280" y="3886200"/>
            <a:chExt cx="3897720" cy="459720"/>
          </a:xfrm>
        </p:grpSpPr>
        <p:sp>
          <p:nvSpPr>
            <p:cNvPr id="212" name=""/>
            <p:cNvSpPr/>
            <p:nvPr/>
          </p:nvSpPr>
          <p:spPr>
            <a:xfrm>
              <a:off x="1691280" y="3886200"/>
              <a:ext cx="389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::= in a  | out a  | open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2514600" y="3962520"/>
              <a:ext cx="2590920" cy="0"/>
              <a:chOff x="2514600" y="3962520"/>
              <a:chExt cx="2590920" cy="0"/>
            </a:xfrm>
          </p:grpSpPr>
          <p:sp>
            <p:nvSpPr>
              <p:cNvPr id="214" name=""/>
              <p:cNvSpPr/>
              <p:nvPr/>
            </p:nvSpPr>
            <p:spPr>
              <a:xfrm>
                <a:off x="2514600" y="3962520"/>
                <a:ext cx="2286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429000" y="3962520"/>
                <a:ext cx="3049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495680" y="3962520"/>
                <a:ext cx="609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1859040" y="5029200"/>
            <a:ext cx="4483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G ::= x  |  L(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,…,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)  |  G | G  | 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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x.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694b6"/>
                </a:solidFill>
                <a:latin typeface="Script MT Bold"/>
              </a:rPr>
              <a:t>Judgements and Graph Transitions</a:t>
            </a: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286000" y="4038480"/>
            <a:ext cx="152280" cy="152640"/>
            <a:chOff x="2286000" y="4038480"/>
            <a:chExt cx="152280" cy="152640"/>
          </a:xfrm>
        </p:grpSpPr>
        <p:sp>
          <p:nvSpPr>
            <p:cNvPr id="220" name=""/>
            <p:cNvSpPr/>
            <p:nvPr/>
          </p:nvSpPr>
          <p:spPr>
            <a:xfrm>
              <a:off x="2286000" y="4038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86000" y="4114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966680" y="385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35053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52680" y="3733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x, </a:t>
            </a:r>
            <a:r>
              <a:rPr b="0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, &lt;&gt;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257800" y="4038480"/>
            <a:ext cx="152280" cy="152640"/>
            <a:chOff x="5257800" y="4038480"/>
            <a:chExt cx="152280" cy="152640"/>
          </a:xfrm>
        </p:grpSpPr>
        <p:sp>
          <p:nvSpPr>
            <p:cNvPr id="228" name=""/>
            <p:cNvSpPr/>
            <p:nvPr/>
          </p:nvSpPr>
          <p:spPr>
            <a:xfrm>
              <a:off x="5257800" y="4038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57800" y="4114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938480" y="385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362320" y="2590920"/>
            <a:ext cx="152280" cy="152280"/>
            <a:chOff x="2362320" y="2590920"/>
            <a:chExt cx="152280" cy="152280"/>
          </a:xfrm>
        </p:grpSpPr>
        <p:sp>
          <p:nvSpPr>
            <p:cNvPr id="233" name=""/>
            <p:cNvSpPr/>
            <p:nvPr/>
          </p:nvSpPr>
          <p:spPr>
            <a:xfrm>
              <a:off x="236232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623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040120" y="239724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24382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Times New Roman"/>
              </a:rPr>
              <a:t>G,       fn(G) contained in </a:t>
            </a:r>
            <a:r>
              <a:rPr b="0" i="1" lang="it-IT" sz="24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505320" y="5105520"/>
            <a:ext cx="2480760" cy="666000"/>
            <a:chOff x="3505320" y="5105520"/>
            <a:chExt cx="2480760" cy="666000"/>
          </a:xfrm>
        </p:grpSpPr>
        <p:sp>
          <p:nvSpPr>
            <p:cNvPr id="238" name=""/>
            <p:cNvSpPr/>
            <p:nvPr/>
          </p:nvSpPr>
          <p:spPr>
            <a:xfrm>
              <a:off x="3505320" y="53578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47120" y="512928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19400" y="5105520"/>
              <a:ext cx="45684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76600" y="5334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81520" y="52959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05200" y="5311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57400" y="4876920"/>
            <a:ext cx="990720" cy="992880"/>
            <a:chOff x="2057400" y="4876920"/>
            <a:chExt cx="990720" cy="992880"/>
          </a:xfrm>
        </p:grpSpPr>
        <p:sp>
          <p:nvSpPr>
            <p:cNvPr id="245" name=""/>
            <p:cNvSpPr/>
            <p:nvPr/>
          </p:nvSpPr>
          <p:spPr>
            <a:xfrm>
              <a:off x="2057400" y="5159160"/>
              <a:ext cx="373320" cy="45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30720" y="5387760"/>
              <a:ext cx="29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29160" y="5349600"/>
              <a:ext cx="745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54280" y="487692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54280" y="541008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06720" y="51512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694b6"/>
                </a:solidFill>
                <a:latin typeface="Script MT Bold"/>
              </a:rPr>
              <a:t>Coordination productions</a:t>
            </a: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205740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676520" y="3062160"/>
            <a:ext cx="1295280" cy="398880"/>
            <a:chOff x="1676520" y="3062160"/>
            <a:chExt cx="1295280" cy="398880"/>
          </a:xfrm>
        </p:grpSpPr>
        <p:sp>
          <p:nvSpPr>
            <p:cNvPr id="254" name=""/>
            <p:cNvSpPr/>
            <p:nvPr/>
          </p:nvSpPr>
          <p:spPr>
            <a:xfrm>
              <a:off x="1676520" y="32036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52480" y="32418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33720" y="308916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18960" y="3062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38280" y="3241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95480" y="32036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586160" y="26812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05120" y="26812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14240" y="3402000"/>
            <a:ext cx="86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open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3260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51240" y="27576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y :=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3222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74000" y="2819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286000" y="4572000"/>
            <a:ext cx="152280" cy="152280"/>
            <a:chOff x="2286000" y="4572000"/>
            <a:chExt cx="152280" cy="152280"/>
          </a:xfrm>
        </p:grpSpPr>
        <p:sp>
          <p:nvSpPr>
            <p:cNvPr id="268" name=""/>
            <p:cNvSpPr/>
            <p:nvPr/>
          </p:nvSpPr>
          <p:spPr>
            <a:xfrm>
              <a:off x="228600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86000" y="4647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753560" y="4419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3828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,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29000" y="4648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4267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y, open a, &lt;&gt;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)[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x/y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867280" y="4572000"/>
            <a:ext cx="152640" cy="152280"/>
            <a:chOff x="5867280" y="4572000"/>
            <a:chExt cx="152640" cy="152280"/>
          </a:xfrm>
        </p:grpSpPr>
        <p:sp>
          <p:nvSpPr>
            <p:cNvPr id="275" name=""/>
            <p:cNvSpPr/>
            <p:nvPr/>
          </p:nvSpPr>
          <p:spPr>
            <a:xfrm>
              <a:off x="586728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67280" y="464796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547960" y="4384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19920" y="4419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56560" y="190512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Bauhaus 93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694b6"/>
                </a:solidFill>
                <a:latin typeface="Script MT Bold"/>
              </a:rPr>
              <a:t>Open rule application</a:t>
            </a: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363760" y="4191120"/>
            <a:ext cx="1797840" cy="1119600"/>
            <a:chOff x="2363760" y="4191120"/>
            <a:chExt cx="1797840" cy="1119600"/>
          </a:xfrm>
        </p:grpSpPr>
        <p:sp>
          <p:nvSpPr>
            <p:cNvPr id="282" name=""/>
            <p:cNvSpPr/>
            <p:nvPr/>
          </p:nvSpPr>
          <p:spPr>
            <a:xfrm>
              <a:off x="2363760" y="41911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83080" y="41911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2454120" y="4572000"/>
              <a:ext cx="1707480" cy="738720"/>
              <a:chOff x="2454120" y="4572000"/>
              <a:chExt cx="1707480" cy="738720"/>
            </a:xfrm>
          </p:grpSpPr>
          <p:sp>
            <p:nvSpPr>
              <p:cNvPr id="285" name=""/>
              <p:cNvSpPr/>
              <p:nvPr/>
            </p:nvSpPr>
            <p:spPr>
              <a:xfrm>
                <a:off x="2454120" y="47131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530440" y="47512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911320" y="45990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96560" y="45720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216240" y="4751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673440" y="4713120"/>
                <a:ext cx="76320" cy="7632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92200" y="4911840"/>
                <a:ext cx="86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82f00"/>
                    </a:solidFill>
                    <a:latin typeface="Times New Roman"/>
                  </a:rPr>
                  <a:t>open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4740120" y="4267080"/>
            <a:ext cx="1600200" cy="503280"/>
            <a:chOff x="4740120" y="4267080"/>
            <a:chExt cx="1600200" cy="503280"/>
          </a:xfrm>
        </p:grpSpPr>
        <p:sp>
          <p:nvSpPr>
            <p:cNvPr id="293" name=""/>
            <p:cNvSpPr/>
            <p:nvPr/>
          </p:nvSpPr>
          <p:spPr>
            <a:xfrm>
              <a:off x="4740120" y="47703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29200" y="426708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y :=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706800" y="4343400"/>
            <a:ext cx="578520" cy="465120"/>
            <a:chOff x="6706800" y="4343400"/>
            <a:chExt cx="578520" cy="465120"/>
          </a:xfrm>
        </p:grpSpPr>
        <p:sp>
          <p:nvSpPr>
            <p:cNvPr id="296" name=""/>
            <p:cNvSpPr/>
            <p:nvPr/>
          </p:nvSpPr>
          <p:spPr>
            <a:xfrm>
              <a:off x="7026120" y="4732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06800" y="4343400"/>
              <a:ext cx="57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x=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066680" y="3733920"/>
            <a:ext cx="990720" cy="1143000"/>
            <a:chOff x="1066680" y="3733920"/>
            <a:chExt cx="990720" cy="1143000"/>
          </a:xfrm>
        </p:grpSpPr>
        <p:sp>
          <p:nvSpPr>
            <p:cNvPr id="299" name=""/>
            <p:cNvSpPr/>
            <p:nvPr/>
          </p:nvSpPr>
          <p:spPr>
            <a:xfrm>
              <a:off x="1066680" y="3733920"/>
              <a:ext cx="990720" cy="1143000"/>
            </a:xfrm>
            <a:prstGeom prst="cloudCallout">
              <a:avLst>
                <a:gd name="adj1" fmla="val 86537"/>
                <a:gd name="adj2" fmla="val 2958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55760" y="400356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355760" y="1793880"/>
            <a:ext cx="29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820960" y="2133720"/>
            <a:ext cx="4496400" cy="494640"/>
            <a:chOff x="2820960" y="2133720"/>
            <a:chExt cx="4496400" cy="494640"/>
          </a:xfrm>
        </p:grpSpPr>
        <p:sp>
          <p:nvSpPr>
            <p:cNvPr id="303" name=""/>
            <p:cNvSpPr/>
            <p:nvPr/>
          </p:nvSpPr>
          <p:spPr>
            <a:xfrm>
              <a:off x="2820960" y="2133720"/>
              <a:ext cx="22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82f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]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  |  </a:t>
              </a:r>
              <a:r>
                <a:rPr b="0" i="1" lang="en-US" sz="2400" spc="-1" strike="noStrike">
                  <a:solidFill>
                    <a:srgbClr val="f82f00"/>
                  </a:solidFill>
                  <a:latin typeface="Times New Roman"/>
                </a:rPr>
                <a:t>open a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.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73640" y="23972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42480" y="216864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P  |  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315200" y="3851280"/>
            <a:ext cx="914400" cy="644400"/>
            <a:chOff x="7315200" y="3851280"/>
            <a:chExt cx="914400" cy="644400"/>
          </a:xfrm>
        </p:grpSpPr>
        <p:sp>
          <p:nvSpPr>
            <p:cNvPr id="307" name=""/>
            <p:cNvSpPr/>
            <p:nvPr/>
          </p:nvSpPr>
          <p:spPr>
            <a:xfrm>
              <a:off x="7315200" y="3886200"/>
              <a:ext cx="914400" cy="609480"/>
            </a:xfrm>
            <a:prstGeom prst="cloudCallout">
              <a:avLst>
                <a:gd name="adj1" fmla="val -58856"/>
                <a:gd name="adj2" fmla="val 8958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82040" y="3851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7391520" y="5029200"/>
            <a:ext cx="914400" cy="609480"/>
            <a:chOff x="7391520" y="5029200"/>
            <a:chExt cx="914400" cy="609480"/>
          </a:xfrm>
        </p:grpSpPr>
        <p:sp>
          <p:nvSpPr>
            <p:cNvPr id="310" name=""/>
            <p:cNvSpPr/>
            <p:nvPr/>
          </p:nvSpPr>
          <p:spPr>
            <a:xfrm>
              <a:off x="7391520" y="5029200"/>
              <a:ext cx="914400" cy="609480"/>
            </a:xfrm>
            <a:prstGeom prst="cloudCallout">
              <a:avLst>
                <a:gd name="adj1" fmla="val -71356"/>
                <a:gd name="adj2" fmla="val -6744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82400" y="5070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814200" y="3119400"/>
            <a:ext cx="2205720" cy="1483560"/>
            <a:chOff x="3814200" y="3119400"/>
            <a:chExt cx="2205720" cy="1483560"/>
          </a:xfrm>
        </p:grpSpPr>
        <p:grpSp>
          <p:nvGrpSpPr>
            <p:cNvPr id="313" name=""/>
            <p:cNvGrpSpPr/>
            <p:nvPr/>
          </p:nvGrpSpPr>
          <p:grpSpPr>
            <a:xfrm>
              <a:off x="3814200" y="3270600"/>
              <a:ext cx="1385280" cy="1332360"/>
              <a:chOff x="3814200" y="3270600"/>
              <a:chExt cx="1385280" cy="1332360"/>
            </a:xfrm>
          </p:grpSpPr>
          <p:sp>
            <p:nvSpPr>
              <p:cNvPr id="314" name=""/>
              <p:cNvSpPr/>
              <p:nvPr/>
            </p:nvSpPr>
            <p:spPr>
              <a:xfrm rot="17124600">
                <a:off x="3973320" y="3365280"/>
                <a:ext cx="1067040" cy="1143000"/>
              </a:xfrm>
              <a:prstGeom prst="cloudCallout">
                <a:avLst>
                  <a:gd name="adj1" fmla="val -75287"/>
                  <a:gd name="adj2" fmla="val -4841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038480" y="3733920"/>
                <a:ext cx="998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82f00"/>
                    </a:solidFill>
                    <a:latin typeface="Times New Roman"/>
                  </a:rPr>
                  <a:t>open a.</a:t>
                </a:r>
                <a:r>
                  <a:rPr b="0" i="1" lang="en-US" sz="16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 flipV="1">
              <a:off x="4952880" y="3428640"/>
              <a:ext cx="10670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20925600">
              <a:off x="4952520" y="3200400"/>
              <a:ext cx="86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82f00"/>
                  </a:solidFill>
                  <a:latin typeface="Times New Roman"/>
                </a:rPr>
                <a:t>open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5029200" y="327636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694b6"/>
                </a:solidFill>
                <a:latin typeface="Script MT Bold"/>
              </a:rPr>
              <a:t>Coordination productions</a:t>
            </a: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320" name=""/>
          <p:cNvSpPr/>
          <p:nvPr/>
        </p:nvSpPr>
        <p:spPr>
          <a:xfrm>
            <a:off x="1295280" y="20574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Bauhaus 93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76520" y="320364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2480" y="3241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33720" y="308916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18960" y="3062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438280" y="324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95480" y="3203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86160" y="26812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05120" y="26812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3160" y="340200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put a,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81280" y="3276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67280" y="3208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92760" y="2819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286000" y="4572000"/>
            <a:ext cx="152280" cy="152280"/>
            <a:chOff x="2286000" y="4572000"/>
            <a:chExt cx="152280" cy="152280"/>
          </a:xfrm>
        </p:grpSpPr>
        <p:sp>
          <p:nvSpPr>
            <p:cNvPr id="334" name=""/>
            <p:cNvSpPr/>
            <p:nvPr/>
          </p:nvSpPr>
          <p:spPr>
            <a:xfrm>
              <a:off x="228600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86000" y="4647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1753560" y="4419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3828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,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29000" y="46483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76720" y="42670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x, in a, &lt;&gt;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), (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y, input a, &lt;z&gt;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162920" y="4495680"/>
            <a:ext cx="152280" cy="152640"/>
            <a:chOff x="7162920" y="4495680"/>
            <a:chExt cx="152280" cy="152640"/>
          </a:xfrm>
        </p:grpSpPr>
        <p:sp>
          <p:nvSpPr>
            <p:cNvPr id="341" name=""/>
            <p:cNvSpPr/>
            <p:nvPr/>
          </p:nvSpPr>
          <p:spPr>
            <a:xfrm>
              <a:off x="7162920" y="4495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62920" y="45720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401880" y="43434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,y,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08400" y="344340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59440" y="3246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40320" y="309420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25560" y="304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086600" y="2895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866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29400" y="327672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935760" y="25146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011720" y="342900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915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,z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52880" y="434340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909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694b6"/>
                </a:solidFill>
                <a:latin typeface="Script MT Bold"/>
              </a:rPr>
              <a:t>Coordination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95280" y="20574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Bauhaus 93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76520" y="320364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52480" y="3241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33720" y="308916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18960" y="3062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38280" y="324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95480" y="3203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86160" y="26812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05120" y="26812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81280" y="3276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67280" y="3208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92760" y="2819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286000" y="4572000"/>
            <a:ext cx="152280" cy="152280"/>
            <a:chOff x="2286000" y="4572000"/>
            <a:chExt cx="152280" cy="152280"/>
          </a:xfrm>
        </p:grpSpPr>
        <p:sp>
          <p:nvSpPr>
            <p:cNvPr id="370" name=""/>
            <p:cNvSpPr/>
            <p:nvPr/>
          </p:nvSpPr>
          <p:spPr>
            <a:xfrm>
              <a:off x="228600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286000" y="4647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753560" y="4419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3828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,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9000" y="4648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0040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x, input a, &lt;x&gt;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334120" y="4572000"/>
            <a:ext cx="152280" cy="152280"/>
            <a:chOff x="5334120" y="4572000"/>
            <a:chExt cx="152280" cy="152280"/>
          </a:xfrm>
        </p:grpSpPr>
        <p:sp>
          <p:nvSpPr>
            <p:cNvPr id="377" name=""/>
            <p:cNvSpPr/>
            <p:nvPr/>
          </p:nvSpPr>
          <p:spPr>
            <a:xfrm>
              <a:off x="533412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34120" y="4647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4801680" y="4419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59440" y="3246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340320" y="309420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325560" y="304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935760" y="2819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3868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,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60880" y="3429000"/>
            <a:ext cx="113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put a,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629400" y="3238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694b6"/>
                </a:solidFill>
                <a:latin typeface="Script MT Bold"/>
              </a:rPr>
              <a:t>Coordination productions</a:t>
            </a: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694b6"/>
                </a:solidFill>
                <a:latin typeface="Script MT Bold"/>
              </a:rPr>
              <a:t>Input rule application</a:t>
            </a: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390" name=""/>
          <p:cNvSpPr/>
          <p:nvPr/>
        </p:nvSpPr>
        <p:spPr>
          <a:xfrm>
            <a:off x="4191120" y="4572000"/>
            <a:ext cx="14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034320" y="4229280"/>
            <a:ext cx="1403280" cy="930600"/>
            <a:chOff x="6034320" y="4229280"/>
            <a:chExt cx="1403280" cy="930600"/>
          </a:xfrm>
        </p:grpSpPr>
        <p:sp>
          <p:nvSpPr>
            <p:cNvPr id="392" name=""/>
            <p:cNvSpPr/>
            <p:nvPr/>
          </p:nvSpPr>
          <p:spPr>
            <a:xfrm>
              <a:off x="6034320" y="42292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6102360" y="4429080"/>
              <a:ext cx="1335240" cy="730800"/>
              <a:chOff x="6102360" y="4429080"/>
              <a:chExt cx="1335240" cy="730800"/>
            </a:xfrm>
          </p:grpSpPr>
          <p:sp>
            <p:nvSpPr>
              <p:cNvPr id="394" name=""/>
              <p:cNvSpPr/>
              <p:nvPr/>
            </p:nvSpPr>
            <p:spPr>
              <a:xfrm>
                <a:off x="6102360" y="4568760"/>
                <a:ext cx="69840" cy="6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188040" y="4602240"/>
                <a:ext cx="35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539040" y="4468680"/>
                <a:ext cx="280800" cy="266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25720" y="44290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238880" y="4570560"/>
                <a:ext cx="71640" cy="6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781680" y="4603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157880" y="4761000"/>
                <a:ext cx="279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1" name=""/>
          <p:cNvGrpSpPr/>
          <p:nvPr/>
        </p:nvGrpSpPr>
        <p:grpSpPr>
          <a:xfrm>
            <a:off x="1600920" y="2022480"/>
            <a:ext cx="6438600" cy="494640"/>
            <a:chOff x="1600920" y="2022480"/>
            <a:chExt cx="6438600" cy="494640"/>
          </a:xfrm>
        </p:grpSpPr>
        <p:sp>
          <p:nvSpPr>
            <p:cNvPr id="402" name=""/>
            <p:cNvSpPr/>
            <p:nvPr/>
          </p:nvSpPr>
          <p:spPr>
            <a:xfrm>
              <a:off x="1600920" y="2057400"/>
              <a:ext cx="27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82f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82f00"/>
                  </a:solidFill>
                  <a:latin typeface="Times New Roman"/>
                </a:rPr>
                <a:t>in a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.P  |  Q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]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  | </a:t>
              </a:r>
              <a:r>
                <a:rPr b="0" i="1" lang="en-US" sz="2400" spc="-1" strike="noStrike">
                  <a:solidFill>
                    <a:srgbClr val="f82f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648320" y="2286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00240" y="2022480"/>
              <a:ext cx="233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 b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P  |  Q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]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  |  R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143000" y="3733920"/>
            <a:ext cx="1066680" cy="2057400"/>
            <a:chOff x="1143000" y="3733920"/>
            <a:chExt cx="1066680" cy="2057400"/>
          </a:xfrm>
        </p:grpSpPr>
        <p:sp>
          <p:nvSpPr>
            <p:cNvPr id="406" name=""/>
            <p:cNvSpPr/>
            <p:nvPr/>
          </p:nvSpPr>
          <p:spPr>
            <a:xfrm>
              <a:off x="1219320" y="3733920"/>
              <a:ext cx="914400" cy="914400"/>
            </a:xfrm>
            <a:prstGeom prst="cloudCallout">
              <a:avLst>
                <a:gd name="adj1" fmla="val 83333"/>
                <a:gd name="adj2" fmla="val 7691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71600" y="39625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82f00"/>
                  </a:solidFill>
                  <a:latin typeface="Times New Roman"/>
                </a:rPr>
                <a:t>in a</a:t>
              </a:r>
              <a:r>
                <a:rPr b="0" i="1" lang="en-US" sz="1800" spc="-1" strike="noStrike">
                  <a:solidFill>
                    <a:srgbClr val="3333cc"/>
                  </a:solidFill>
                  <a:latin typeface="Times New Roman"/>
                </a:rPr>
                <a:t>.P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43000" y="5181480"/>
              <a:ext cx="914400" cy="609840"/>
            </a:xfrm>
            <a:prstGeom prst="cloudCallout">
              <a:avLst>
                <a:gd name="adj1" fmla="val 81773"/>
                <a:gd name="adj2" fmla="val -6666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09840" y="52959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105520" y="3276720"/>
            <a:ext cx="1066680" cy="2361960"/>
            <a:chOff x="5105520" y="3276720"/>
            <a:chExt cx="1066680" cy="2361960"/>
          </a:xfrm>
        </p:grpSpPr>
        <p:sp>
          <p:nvSpPr>
            <p:cNvPr id="411" name=""/>
            <p:cNvSpPr/>
            <p:nvPr/>
          </p:nvSpPr>
          <p:spPr>
            <a:xfrm>
              <a:off x="5257800" y="3276720"/>
              <a:ext cx="914400" cy="914400"/>
            </a:xfrm>
            <a:prstGeom prst="cloudCallout">
              <a:avLst>
                <a:gd name="adj1" fmla="val 36458"/>
                <a:gd name="adj2" fmla="val 8732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62720" y="35053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Times New Roman"/>
                </a:rPr>
                <a:t>P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105520" y="5029200"/>
              <a:ext cx="914400" cy="609480"/>
            </a:xfrm>
            <a:prstGeom prst="cloudCallout">
              <a:avLst>
                <a:gd name="adj1" fmla="val 52606"/>
                <a:gd name="adj2" fmla="val -1057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72360" y="51436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439720" y="2895480"/>
            <a:ext cx="1141560" cy="1676520"/>
            <a:chOff x="2439720" y="2895480"/>
            <a:chExt cx="1141560" cy="1676520"/>
          </a:xfrm>
        </p:grpSpPr>
        <p:grpSp>
          <p:nvGrpSpPr>
            <p:cNvPr id="416" name=""/>
            <p:cNvGrpSpPr/>
            <p:nvPr/>
          </p:nvGrpSpPr>
          <p:grpSpPr>
            <a:xfrm>
              <a:off x="2439720" y="3809880"/>
              <a:ext cx="1141560" cy="762120"/>
              <a:chOff x="2439720" y="3809880"/>
              <a:chExt cx="1141560" cy="762120"/>
            </a:xfrm>
          </p:grpSpPr>
          <p:sp>
            <p:nvSpPr>
              <p:cNvPr id="417" name=""/>
              <p:cNvSpPr/>
              <p:nvPr/>
            </p:nvSpPr>
            <p:spPr>
              <a:xfrm>
                <a:off x="2523960" y="4265640"/>
                <a:ext cx="69840" cy="66600"/>
              </a:xfrm>
              <a:prstGeom prst="ellipse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593800" y="4299120"/>
                <a:ext cx="35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44800" y="4165560"/>
                <a:ext cx="281160" cy="266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225960" y="4299120"/>
                <a:ext cx="35532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439720" y="3809880"/>
                <a:ext cx="279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1bd69"/>
                    </a:solidFill>
                    <a:latin typeface="Times New Roman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972880" y="41148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1bd69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2666880" y="2895480"/>
              <a:ext cx="914400" cy="609840"/>
            </a:xfrm>
            <a:prstGeom prst="cloudCallout">
              <a:avLst>
                <a:gd name="adj1" fmla="val -51564"/>
                <a:gd name="adj2" fmla="val 166148"/>
              </a:avLst>
            </a:prstGeom>
            <a:noFill/>
            <a:ln w="936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33720" y="30099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a1bd69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7315200" y="3200400"/>
            <a:ext cx="1209600" cy="1618200"/>
            <a:chOff x="7315200" y="3200400"/>
            <a:chExt cx="1209600" cy="1618200"/>
          </a:xfrm>
        </p:grpSpPr>
        <p:grpSp>
          <p:nvGrpSpPr>
            <p:cNvPr id="426" name=""/>
            <p:cNvGrpSpPr/>
            <p:nvPr/>
          </p:nvGrpSpPr>
          <p:grpSpPr>
            <a:xfrm>
              <a:off x="7315200" y="3886200"/>
              <a:ext cx="1209600" cy="932400"/>
              <a:chOff x="7315200" y="3886200"/>
              <a:chExt cx="1209600" cy="932400"/>
            </a:xfrm>
          </p:grpSpPr>
          <p:sp>
            <p:nvSpPr>
              <p:cNvPr id="427" name=""/>
              <p:cNvSpPr/>
              <p:nvPr/>
            </p:nvSpPr>
            <p:spPr>
              <a:xfrm>
                <a:off x="8381880" y="4584600"/>
                <a:ext cx="69840" cy="6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231400" y="388620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315200" y="4618080"/>
                <a:ext cx="35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669080" y="4484520"/>
                <a:ext cx="281160" cy="266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950240" y="4633920"/>
                <a:ext cx="43164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697160" y="44197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7315200" y="3200400"/>
              <a:ext cx="914400" cy="609480"/>
              <a:chOff x="7315200" y="3200400"/>
              <a:chExt cx="914400" cy="609480"/>
            </a:xfrm>
          </p:grpSpPr>
          <p:sp>
            <p:nvSpPr>
              <p:cNvPr id="434" name=""/>
              <p:cNvSpPr/>
              <p:nvPr/>
            </p:nvSpPr>
            <p:spPr>
              <a:xfrm>
                <a:off x="7315200" y="3200400"/>
                <a:ext cx="914400" cy="609480"/>
              </a:xfrm>
              <a:prstGeom prst="cloudCallout">
                <a:avLst>
                  <a:gd name="adj1" fmla="val -51564"/>
                  <a:gd name="adj2" fmla="val 166148"/>
                </a:avLst>
              </a:prstGeom>
              <a:noFill/>
              <a:ln w="9360">
                <a:solidFill>
                  <a:srgbClr val="99cc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21560" y="33526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a1bd69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2286360" y="4191120"/>
            <a:ext cx="2112840" cy="1362240"/>
            <a:chOff x="2286360" y="4191120"/>
            <a:chExt cx="2112840" cy="1362240"/>
          </a:xfrm>
        </p:grpSpPr>
        <p:sp>
          <p:nvSpPr>
            <p:cNvPr id="437" name=""/>
            <p:cNvSpPr/>
            <p:nvPr/>
          </p:nvSpPr>
          <p:spPr>
            <a:xfrm>
              <a:off x="3506760" y="41911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2286360" y="4489560"/>
              <a:ext cx="2112840" cy="1063800"/>
              <a:chOff x="2286360" y="4489560"/>
              <a:chExt cx="2112840" cy="1063800"/>
            </a:xfrm>
          </p:grpSpPr>
          <p:sp>
            <p:nvSpPr>
              <p:cNvPr id="439" name=""/>
              <p:cNvSpPr/>
              <p:nvPr/>
            </p:nvSpPr>
            <p:spPr>
              <a:xfrm>
                <a:off x="2441520" y="4944960"/>
                <a:ext cx="69840" cy="6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11360" y="4978440"/>
                <a:ext cx="35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862360" y="4844880"/>
                <a:ext cx="280800" cy="266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849040" y="48211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3143160" y="4647960"/>
                <a:ext cx="438120" cy="33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81280" y="4572000"/>
                <a:ext cx="69840" cy="66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357640" y="448956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286360" y="5154480"/>
                <a:ext cx="57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82f00"/>
                    </a:solidFill>
                    <a:latin typeface="Times New Roman"/>
                  </a:rPr>
                  <a:t>in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7" name=""/>
              <p:cNvGrpSpPr/>
              <p:nvPr/>
            </p:nvGrpSpPr>
            <p:grpSpPr>
              <a:xfrm>
                <a:off x="3275280" y="4724280"/>
                <a:ext cx="1123920" cy="398880"/>
                <a:chOff x="3275280" y="4724280"/>
                <a:chExt cx="1123920" cy="3988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3275280" y="4724280"/>
                  <a:ext cx="1123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3333cc"/>
                      </a:solidFill>
                      <a:latin typeface="Times New Roman"/>
                    </a:rPr>
                    <a:t>input a, z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429000" y="48769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694b6"/>
                </a:solidFill>
                <a:latin typeface="Script MT Bold"/>
              </a:rPr>
              <a:t>Coordination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295280" y="20574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Bauhaus 93"/>
              </a:rPr>
              <a:t>Out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76520" y="320364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752480" y="3241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133720" y="308916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118960" y="3062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38280" y="324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95480" y="3203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86160" y="26812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05120" y="26812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512440" y="3402000"/>
            <a:ext cx="12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output a,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81280" y="3276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867280" y="3208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92760" y="2819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286000" y="4572000"/>
            <a:ext cx="152280" cy="152280"/>
            <a:chOff x="2286000" y="4572000"/>
            <a:chExt cx="152280" cy="152280"/>
          </a:xfrm>
        </p:grpSpPr>
        <p:sp>
          <p:nvSpPr>
            <p:cNvPr id="465" name=""/>
            <p:cNvSpPr/>
            <p:nvPr/>
          </p:nvSpPr>
          <p:spPr>
            <a:xfrm>
              <a:off x="228600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86000" y="4647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753560" y="4419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3828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,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429000" y="46483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76720" y="4267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x, out a, &lt;&gt;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), (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y, output a, &lt;z&gt;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7162920" y="4495680"/>
            <a:ext cx="152280" cy="152640"/>
            <a:chOff x="7162920" y="4495680"/>
            <a:chExt cx="152280" cy="152640"/>
          </a:xfrm>
        </p:grpSpPr>
        <p:sp>
          <p:nvSpPr>
            <p:cNvPr id="472" name=""/>
            <p:cNvSpPr/>
            <p:nvPr/>
          </p:nvSpPr>
          <p:spPr>
            <a:xfrm>
              <a:off x="7162920" y="4495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162920" y="45720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6401880" y="43434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,y,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08040" y="344340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ou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959440" y="3246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340320" y="309420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325560" y="304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086600" y="2895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0866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629400" y="327672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935760" y="25146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11720" y="342900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915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,z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4343400"/>
            <a:ext cx="6094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694b6"/>
                </a:solidFill>
                <a:latin typeface="Script MT Bold"/>
              </a:rPr>
              <a:t>Coordination productions</a:t>
            </a: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487" name=""/>
          <p:cNvSpPr/>
          <p:nvPr/>
        </p:nvSpPr>
        <p:spPr>
          <a:xfrm>
            <a:off x="26668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447920" y="2209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Bauhaus 93"/>
              </a:rPr>
              <a:t>Out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28800" y="3355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905120" y="339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86000" y="324180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71240" y="32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90920" y="339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48120" y="335592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38440" y="283356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957760" y="283356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33920" y="3429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19920" y="3360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45400" y="2971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438280" y="4724280"/>
            <a:ext cx="152640" cy="152640"/>
            <a:chOff x="2438280" y="4724280"/>
            <a:chExt cx="152640" cy="152640"/>
          </a:xfrm>
        </p:grpSpPr>
        <p:sp>
          <p:nvSpPr>
            <p:cNvPr id="501" name=""/>
            <p:cNvSpPr/>
            <p:nvPr/>
          </p:nvSpPr>
          <p:spPr>
            <a:xfrm>
              <a:off x="2438280" y="4724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438280" y="48006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1906200" y="4572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9092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,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81280" y="4800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81280" y="4419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x, output a, &lt;x&gt;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6324480" y="4648320"/>
            <a:ext cx="152640" cy="152280"/>
            <a:chOff x="6324480" y="4648320"/>
            <a:chExt cx="152640" cy="152280"/>
          </a:xfrm>
        </p:grpSpPr>
        <p:sp>
          <p:nvSpPr>
            <p:cNvPr id="508" name=""/>
            <p:cNvSpPr/>
            <p:nvPr/>
          </p:nvSpPr>
          <p:spPr>
            <a:xfrm>
              <a:off x="6324480" y="4648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24480" y="47242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5792400" y="4495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11720" y="339876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92960" y="3246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478200" y="3200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23888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88400" y="2971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7712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,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17520" y="3581280"/>
            <a:ext cx="12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output a,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781680" y="33908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694b6"/>
                </a:solidFill>
                <a:latin typeface="Script MT Bold"/>
              </a:rPr>
              <a:t>Coordination productions</a:t>
            </a: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694b6"/>
                </a:solidFill>
                <a:latin typeface="Script MT Bold"/>
              </a:rPr>
              <a:t>References</a:t>
            </a: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F. Gadducci, U. Montanari “A concurrent graph semantics for mobile ambients” [MFPS2001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. Hirsh, U. Montanari “Synchronized Hyperedge Replacement with Name Mobility (A graphical calculus for mobile systems)” [Concur2001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295280" y="20574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Bauhaus 93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320364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52480" y="3241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133720" y="308916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058840" y="304812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43828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95480" y="3238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86160" y="26812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45000" y="26668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429000" y="3276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867280" y="3208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92760" y="2819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59440" y="3246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340320" y="309420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325920" y="304164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08660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935760" y="2819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293840" y="342900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put a,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29400" y="3238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694b6"/>
                </a:solidFill>
                <a:latin typeface="Script MT Bold"/>
              </a:rPr>
              <a:t>Coordination productions</a:t>
            </a: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540" name=""/>
          <p:cNvSpPr/>
          <p:nvPr/>
        </p:nvSpPr>
        <p:spPr>
          <a:xfrm>
            <a:off x="2436840" y="342900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put a,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90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309720" y="3387600"/>
            <a:ext cx="3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2286000" y="4724280"/>
            <a:ext cx="152280" cy="152640"/>
            <a:chOff x="2286000" y="4724280"/>
            <a:chExt cx="152280" cy="152640"/>
          </a:xfrm>
        </p:grpSpPr>
        <p:sp>
          <p:nvSpPr>
            <p:cNvPr id="544" name=""/>
            <p:cNvSpPr/>
            <p:nvPr/>
          </p:nvSpPr>
          <p:spPr>
            <a:xfrm>
              <a:off x="2286000" y="4724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86000" y="4800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1753560" y="4572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43828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,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429000" y="48006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0040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x, input a, &lt;z&gt;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), (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y, input a, &lt;z&gt;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7238880" y="4648320"/>
            <a:ext cx="152640" cy="152280"/>
            <a:chOff x="7238880" y="4648320"/>
            <a:chExt cx="152640" cy="152280"/>
          </a:xfrm>
        </p:grpSpPr>
        <p:sp>
          <p:nvSpPr>
            <p:cNvPr id="551" name=""/>
            <p:cNvSpPr/>
            <p:nvPr/>
          </p:nvSpPr>
          <p:spPr>
            <a:xfrm>
              <a:off x="7238880" y="4648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238880" y="47242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6478200" y="4495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,y,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9152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,z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81480" y="449568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Script MT Bold"/>
              </a:rPr>
              <a:t>Future Work</a:t>
            </a: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557" name=""/>
          <p:cNvSpPr/>
          <p:nvPr/>
        </p:nvSpPr>
        <p:spPr>
          <a:xfrm>
            <a:off x="1523880" y="2133720"/>
            <a:ext cx="655344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3333cc"/>
                </a:solidFill>
                <a:latin typeface="Times New Roman"/>
              </a:rPr>
              <a:t>Example: optimal routing in term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it-IT" sz="2800" spc="-1" strike="noStrike">
                <a:solidFill>
                  <a:srgbClr val="3333cc"/>
                </a:solidFill>
                <a:latin typeface="Times New Roman"/>
              </a:rPr>
              <a:t>orchestration and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3333cc"/>
                </a:solidFill>
                <a:latin typeface="Times New Roman"/>
              </a:rPr>
              <a:t>LTS semantics for Amb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3333cc"/>
                </a:solidFill>
                <a:latin typeface="Times New Roman"/>
              </a:rPr>
              <a:t>Model for Klaim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3333cc"/>
                </a:solidFill>
                <a:latin typeface="Times New Roman"/>
              </a:rPr>
              <a:t>From tree to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694b6"/>
                </a:solidFill>
                <a:latin typeface="Script MT Bold"/>
              </a:rPr>
              <a:t>Orchestrating Network Activities (1)</a:t>
            </a: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581280"/>
            <a:ext cx="12193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2899080"/>
            <a:ext cx="304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4267080"/>
            <a:ext cx="12193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3352680"/>
            <a:ext cx="12193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2590920"/>
            <a:ext cx="350532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30360" y="213696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3813480"/>
            <a:ext cx="380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3127680"/>
            <a:ext cx="304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2666880"/>
            <a:ext cx="762120" cy="685800"/>
          </a:xfrm>
          <a:prstGeom prst="sun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4495680"/>
            <a:ext cx="457200" cy="533520"/>
          </a:xfrm>
          <a:prstGeom prst="sun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733920"/>
            <a:ext cx="533160" cy="457200"/>
          </a:xfrm>
          <a:prstGeom prst="sun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3962520"/>
            <a:ext cx="457200" cy="5331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3733920"/>
            <a:ext cx="457200" cy="533160"/>
          </a:xfrm>
          <a:prstGeom prst="sun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4320" y="350532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48006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694b6"/>
                </a:solidFill>
                <a:latin typeface="Script MT Bold"/>
              </a:rPr>
              <a:t>Orchestrating Network Activities (2)</a:t>
            </a: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3581280"/>
            <a:ext cx="12193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899080"/>
            <a:ext cx="304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4267080"/>
            <a:ext cx="12193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352680"/>
            <a:ext cx="12193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2590920"/>
            <a:ext cx="350532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30360" y="213696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3813480"/>
            <a:ext cx="380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3127680"/>
            <a:ext cx="304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2666880"/>
            <a:ext cx="762120" cy="685800"/>
          </a:xfrm>
          <a:prstGeom prst="sun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4495680"/>
            <a:ext cx="457200" cy="533520"/>
          </a:xfrm>
          <a:prstGeom prst="sun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3733920"/>
            <a:ext cx="533160" cy="457200"/>
          </a:xfrm>
          <a:prstGeom prst="sun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3962520"/>
            <a:ext cx="457200" cy="5331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3733920"/>
            <a:ext cx="457200" cy="533160"/>
          </a:xfrm>
          <a:prstGeom prst="sun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34320" y="350532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41148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694b6"/>
                </a:solidFill>
                <a:latin typeface="Script MT Bold"/>
              </a:rPr>
              <a:t>Orchestrating Network Activities (3)</a:t>
            </a: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3581280"/>
            <a:ext cx="12193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2899080"/>
            <a:ext cx="304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4267080"/>
            <a:ext cx="12193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3352680"/>
            <a:ext cx="12193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2590920"/>
            <a:ext cx="350532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30360" y="213696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3813480"/>
            <a:ext cx="380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3127680"/>
            <a:ext cx="304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2666880"/>
            <a:ext cx="762120" cy="685800"/>
          </a:xfrm>
          <a:prstGeom prst="sun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4495680"/>
            <a:ext cx="457200" cy="533520"/>
          </a:xfrm>
          <a:prstGeom prst="sun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3733920"/>
            <a:ext cx="533160" cy="457200"/>
          </a:xfrm>
          <a:prstGeom prst="sun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3962520"/>
            <a:ext cx="457200" cy="5331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3429000"/>
            <a:ext cx="457200" cy="533520"/>
          </a:xfrm>
          <a:prstGeom prst="sun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34320" y="350532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41148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694b6"/>
                </a:solidFill>
                <a:latin typeface="Script MT Bold"/>
              </a:rPr>
              <a:t>Orchestrating Network Activities (4)</a:t>
            </a: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3581280"/>
            <a:ext cx="12193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2899080"/>
            <a:ext cx="304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4267080"/>
            <a:ext cx="12193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352680"/>
            <a:ext cx="12193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2590920"/>
            <a:ext cx="350532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30360" y="213696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3813480"/>
            <a:ext cx="380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3127680"/>
            <a:ext cx="304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2666880"/>
            <a:ext cx="762120" cy="685800"/>
          </a:xfrm>
          <a:prstGeom prst="sun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81280" y="4495680"/>
            <a:ext cx="457200" cy="533520"/>
          </a:xfrm>
          <a:prstGeom prst="sun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3733920"/>
            <a:ext cx="533160" cy="457200"/>
          </a:xfrm>
          <a:prstGeom prst="sun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3962520"/>
            <a:ext cx="457200" cy="5331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4419720"/>
            <a:ext cx="457200" cy="533160"/>
          </a:xfrm>
          <a:prstGeom prst="sun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350532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41148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694b6"/>
                </a:solidFill>
                <a:latin typeface="Script MT Bold"/>
              </a:rPr>
              <a:t>Orchestrating Network Activities(5)</a:t>
            </a: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3581280"/>
            <a:ext cx="12193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2590920"/>
            <a:ext cx="350532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30360" y="213696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52480" y="3127680"/>
            <a:ext cx="304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3200400"/>
            <a:ext cx="761760" cy="685800"/>
          </a:xfrm>
          <a:prstGeom prst="sun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3657600"/>
            <a:ext cx="533160" cy="457200"/>
          </a:xfrm>
          <a:prstGeom prst="sun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3962520"/>
            <a:ext cx="457200" cy="5331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124080" y="3965760"/>
            <a:ext cx="1219320" cy="1520640"/>
            <a:chOff x="3124080" y="3965760"/>
            <a:chExt cx="1219320" cy="1520640"/>
          </a:xfrm>
        </p:grpSpPr>
        <p:sp>
          <p:nvSpPr>
            <p:cNvPr id="174" name=""/>
            <p:cNvSpPr/>
            <p:nvPr/>
          </p:nvSpPr>
          <p:spPr>
            <a:xfrm>
              <a:off x="3124080" y="4419720"/>
              <a:ext cx="121932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24080" y="3965760"/>
              <a:ext cx="380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6360" y="4572000"/>
              <a:ext cx="457200" cy="533520"/>
            </a:xfrm>
            <a:prstGeom prst="su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4648320"/>
              <a:ext cx="457200" cy="533520"/>
            </a:xfrm>
            <a:prstGeom prst="sun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905120" y="41148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2899080"/>
            <a:ext cx="304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3352680"/>
            <a:ext cx="12193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3505320"/>
            <a:ext cx="762120" cy="685800"/>
          </a:xfrm>
          <a:prstGeom prst="sun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350532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34320" y="350532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2746440"/>
            <a:ext cx="304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3920" y="3200400"/>
            <a:ext cx="12189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365760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694b6"/>
                </a:solidFill>
                <a:latin typeface="Script MT Bold"/>
              </a:rPr>
              <a:t>Ambient-like Orchestration of Components</a:t>
            </a: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P ::= M.N  |  !M.N  | &lt;C&gt; | ni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M ::= in a  |  out a  |  open a  |  M.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C ::= …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N::= P | a[N] | N | 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15840" y="15840"/>
            <a:ext cx="1828800" cy="9511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Gianluigi Ferrari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RQR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694b6"/>
                </a:solidFill>
                <a:latin typeface="Script MT Bold"/>
              </a:rPr>
              <a:t>Ambient-like Orchestration of Components</a:t>
            </a:r>
            <a:endParaRPr b="0" lang="en-US" sz="3200" spc="-1" strike="noStrike">
              <a:solidFill>
                <a:srgbClr val="3694b6"/>
              </a:solidFill>
              <a:latin typeface="Script MT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+N = Spatial Interface Definition Language: Describe the way components are driven around the network (Quality Requirement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 =Behavioural Interface Definition Language (Component Behaviour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13:54:18Z</dcterms:created>
  <dc:creator>Gianluigi Ferrari </dc:creator>
  <dc:description/>
  <dc:language>en-US</dc:language>
  <cp:lastModifiedBy>Gianluigi Ferrari </cp:lastModifiedBy>
  <dcterms:modified xsi:type="dcterms:W3CDTF">2001-06-12T07:55:04Z</dcterms:modified>
  <cp:revision>39</cp:revision>
  <dc:subject/>
  <dc:title>Graphs and Constraints for Coordination</dc:title>
</cp:coreProperties>
</file>